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A75E-EA6D-4BC0-BABC-7EB308D83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4E17-CBEA-4311-8E42-FD9CDBFB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7C20-C870-4930-A395-525936FA9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7CB2-A011-48BD-8E92-EE0AFDA2F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ADC2-56AF-4E66-B0DD-0FD5750B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3B95-D6A7-47DE-8AD9-6F849CCB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500A-0B5E-44D9-BC94-51103B01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1349-5E67-4851-8DDA-921A69B3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ED36-35CD-43D3-BF73-092892FC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9831-DFC2-42E7-B595-04C0C0C9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B306-6024-4CF3-8BE9-66C44535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8F94-B9DA-462D-A81F-536F52D6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70DF-F6A2-4676-A33D-50E74E3B3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3. Kirjeldusloogika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rjeldusloogikad (description logics) on intellektitehnikast pärit loogikad, mille ide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jääda lauseloogika hea analüüsitavuse ja predikaatloogika suure väljendusvõimsuse vahepea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rjeldusloogikad on mõeldud teadmiste esitamise formaalseks vahendik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-kastidek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imetatakse sisaldus- ja võrdusväidete hulk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-kast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ehtib struktuuris M ehk M on T mudeliks, kui M kehtestab kõik T väi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õiste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T-kast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hte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htestat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, kui leidub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udel M nii, et 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õiste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mõisteg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-kast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hte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etu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i kõig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udelite M korral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õisted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-kast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hte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etu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, kui kõig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udelite M korral  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õisted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-kast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hte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õikumatu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, kui kõig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udelite M kor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õik eeltoodud probleemid on taandatavad kaetuse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õiste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kehtestamatu parajasti siis, kui ta on kaetud mõistega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õisted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ekvivalentsed, ku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kaetud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ga 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kaetud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õisted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lõikumatud parajasti siis, ku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kaetud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ühisosa on lubatud, siis on nad kõik taandatavad ka kehtestamatuse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ga kaetud parajasti siis, ku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kehtestamat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ekvivalentsed parajasti siis, ku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mõlema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htestamatu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lõikumatud, ku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kehtestamatu.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htestamatus on taandatav kõigile ülejäänud probleemide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kehtestamatu parajasti siis, kui ta on kaetud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kehtestamatu parajasti siis, kui ta on ekvivalentne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kehtestamatu parajasti siis, kui ta on lõikumatu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äreldus: Tuletusprobleemide keerukuse hindamiseks piisab, kui leida alumised tõkked kehtestamatuse probleemi keerukusele ja ülemised tõkked kaetuse probleem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üntak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rjelduskeele signatuuri moodustavad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omaarsed mõisted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ähistame CC) 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omaarsed rolli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ähistame RC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rjelduskeelte süntaksi kategooriateks on mõisted ja rollid. Baaskeeles AL o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nsateks rollideks atomaarsed rollid, aga mõisted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le etteantud signatuuri (CC; RC)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antud järgmise induktiivse definitsioonig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a atomaarmõiste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mõis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mõisted (tühi mõiste, universaalne mõiste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atomaarne mõiste, siis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mõiste (atomaarne täiend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, D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mõisted, siis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mõiste (ühisosa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atomaarne roll ja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mõiste, siis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.C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mõiste (atribuudi väärtuste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tsendus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mõiste, siis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.T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mõiste (erikujuline eksiste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inevates laiendustes lisanduvad üksikult või mitmekaupa järgmised tingim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, D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mõisted, sii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mõiste (ühend) (laiendus </a:t>
            </a:r>
            <a:r>
              <a:rPr b="0" lang="et-EE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U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roll 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mõiste, siis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.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mõiste (üldkujuline eksistents) (laiendus </a:t>
            </a:r>
            <a:r>
              <a:rPr b="0" lang="et-EE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roll, siis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mõisted (arvukitsendused) (laiendus </a:t>
            </a:r>
            <a:r>
              <a:rPr b="0" lang="et-EE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mõiste, siis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mõiste (üldkujuline täiend) (laiendus </a:t>
            </a:r>
            <a:r>
              <a:rPr b="0" lang="et-EE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äide keerulisest mõistes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hasChild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hasChild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Child.Female )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Semantik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antiliseks struktuuriks signatuuri (CC; RC) jaoks on paar M = (D; I), kus 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õhihulk) on mingi mittetühi hulk ja I (interpretatsioon) on sõltuv funktsioon, mi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ale atomaarmõistele seab vastavusse hulga D mingi alamhulga ning igale rollil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gi binaarse seose hulgal D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askeele AL puhul laiendatakse interpretatsioon I väärtustuseks [ ]</a:t>
            </a:r>
            <a:r>
              <a:rPr b="0" lang="et-EE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ärgneval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I(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D \ I(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.C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(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(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.T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(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(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kkamate keelte puhul tuleb täiendavalt defineerid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.C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(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(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&amp;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R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# {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(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}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R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# {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(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}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D \ [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aldusväid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avaldis kujul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, 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mõis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õrdusväid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avaldis kujul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, 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mõis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aldusväide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ehtib struktuuris M parajasti siis, kui 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õrdusväide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htib struktuuris M parajasti siis, kui 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1T09:40:18Z</dcterms:created>
  <dc:creator>Tiina Zingel</dc:creator>
  <dc:description/>
  <dc:language>en-US</dc:language>
  <cp:lastModifiedBy>Tiina Zingel</cp:lastModifiedBy>
  <dcterms:modified xsi:type="dcterms:W3CDTF">2006-05-11T09:40:33Z</dcterms:modified>
  <cp:revision>1</cp:revision>
  <dc:subject/>
  <dc:title>11.3. Kirjeldusloogikad.</dc:title>
</cp:coreProperties>
</file>